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129A-7836-4F62-B0A9-B24B8A4CB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B462-1B06-4D83-B5BF-8C6A194A3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0A1B-D55B-449E-80B1-7B2AEA9C1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9E74-7100-4538-B533-3ED59FD5F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4CB3-5E40-4EC0-B48B-81E6E85C3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A21F-4920-4D8F-A784-EA9FDC98A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A8BA-890D-4D1A-903B-D27AF1EA0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F648-2391-4542-AE60-8F18857A4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9113-B97F-46D1-A82C-08C4D18BE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DCCC-D7DD-4D07-BC23-29FBCED39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6EFE-11E7-4AD3-9E03-C45E8B5C2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24A4-5750-481E-94CE-0813CA98C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6BF61-D241-4128-8DBC-4BF88E2A41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66560" y="824040"/>
            <a:ext cx="821088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66560" y="824040"/>
            <a:ext cx="8210880" cy="520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6560" y="824040"/>
            <a:ext cx="821088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68360" y="571680"/>
            <a:ext cx="8209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8360" y="824040"/>
            <a:ext cx="820908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6560" y="824040"/>
            <a:ext cx="821088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7:22:07Z</dcterms:created>
  <dc:creator>Patrick J. Mooney</dc:creator>
  <dc:description/>
  <dc:language>en-US</dc:language>
  <cp:lastModifiedBy>Patrick J. Mooney</cp:lastModifiedBy>
  <dcterms:modified xsi:type="dcterms:W3CDTF">2011-09-15T03:19:12Z</dcterms:modified>
  <cp:revision>4</cp:revision>
  <dc:subject/>
  <dc:title>Slide 1</dc:title>
</cp:coreProperties>
</file>